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120-BF1D-4F6B-AAF3-59E4F184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A56-DFA4-4181-B3D5-5FFBD5A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EDA-6EAD-4DBF-A695-906B6C31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24E-2046-4220-9772-37193B74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85D-2B05-4433-A7A9-6B86060C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8AE-8954-4C2B-9843-BA353121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004-3502-4795-AA26-B0EDABA3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13E-503F-44B4-8B0B-7B40C18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6C5-71F5-4944-B036-D9E78629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71B-1FC4-4567-975C-691EC84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232-B096-45DD-A9C6-384EC049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0C2-8F0C-45C9-AEC1-0B07B5F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1DC2F-FB15-4E9D-8A48-721C1E6BED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6400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elyn's  Decimal  Word 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971800"/>
            <a:ext cx="6858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8288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1828800"/>
            <a:ext cx="297180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s. Cl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3:54:56Z</dcterms:created>
  <dc:creator/>
  <dc:description/>
  <dc:language>en-US</dc:language>
  <cp:lastModifiedBy/>
  <cp:revision>1</cp:revision>
  <dc:subject/>
  <dc:title/>
</cp:coreProperties>
</file>